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32100838" cy="501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35E-B7E1-4656-8A30-0B1E9E35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8CB-8C88-4E02-947C-5968BCF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5A7-AA56-4216-A02E-05781AE5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5DE-6944-4A2B-B4E5-E2012F83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FB3-83CD-4222-8238-89918E9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543-D245-4163-A5A5-298B3E7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327-66D2-4686-ABFF-4E0D268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1C1-9D67-48A9-A8A4-64E8895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692-A33C-48B8-94F1-ADC205B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A73-C2C7-43C8-8E16-D456173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98E-60F3-417A-B916-574FA24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E48-C02B-4877-9B68-0DA1437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D602-88C2-4944-BE07-240C587C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19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4960" y="254160"/>
          <a:ext cx="65412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54160"/>
                    <a:ext cx="6541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3880" y="428760"/>
            <a:ext cx="8150400" cy="6080040"/>
          </a:xfrm>
          <a:custGeom>
            <a:avLst/>
            <a:gdLst/>
            <a:ahLst/>
            <a:rect l="l" t="t" r="r" b="b"/>
            <a:pathLst>
              <a:path w="28752" h="18384">
                <a:moveTo>
                  <a:pt x="0" y="18384"/>
                </a:moveTo>
                <a:lnTo>
                  <a:pt x="2592" y="15024"/>
                </a:lnTo>
                <a:lnTo>
                  <a:pt x="2544" y="11136"/>
                </a:lnTo>
                <a:lnTo>
                  <a:pt x="528" y="9072"/>
                </a:lnTo>
                <a:lnTo>
                  <a:pt x="192" y="6192"/>
                </a:lnTo>
                <a:lnTo>
                  <a:pt x="48" y="2112"/>
                </a:lnTo>
                <a:lnTo>
                  <a:pt x="2592" y="432"/>
                </a:lnTo>
                <a:lnTo>
                  <a:pt x="7584" y="0"/>
                </a:lnTo>
                <a:lnTo>
                  <a:pt x="13728" y="144"/>
                </a:lnTo>
                <a:lnTo>
                  <a:pt x="19104" y="0"/>
                </a:lnTo>
                <a:lnTo>
                  <a:pt x="19104" y="4656"/>
                </a:lnTo>
                <a:lnTo>
                  <a:pt x="16080" y="8016"/>
                </a:lnTo>
                <a:lnTo>
                  <a:pt x="11904" y="8256"/>
                </a:lnTo>
                <a:lnTo>
                  <a:pt x="9312" y="10944"/>
                </a:lnTo>
                <a:lnTo>
                  <a:pt x="13152" y="10896"/>
                </a:lnTo>
                <a:lnTo>
                  <a:pt x="12912" y="13776"/>
                </a:lnTo>
                <a:lnTo>
                  <a:pt x="7632" y="13104"/>
                </a:lnTo>
                <a:lnTo>
                  <a:pt x="7680" y="15696"/>
                </a:lnTo>
                <a:lnTo>
                  <a:pt x="19008" y="15552"/>
                </a:lnTo>
                <a:lnTo>
                  <a:pt x="18720" y="10704"/>
                </a:lnTo>
                <a:lnTo>
                  <a:pt x="15072" y="12240"/>
                </a:lnTo>
                <a:lnTo>
                  <a:pt x="15504" y="9456"/>
                </a:lnTo>
                <a:lnTo>
                  <a:pt x="20304" y="9456"/>
                </a:lnTo>
                <a:lnTo>
                  <a:pt x="22080" y="4944"/>
                </a:lnTo>
                <a:lnTo>
                  <a:pt x="21120" y="432"/>
                </a:lnTo>
                <a:lnTo>
                  <a:pt x="24288" y="384"/>
                </a:lnTo>
                <a:lnTo>
                  <a:pt x="24288" y="10272"/>
                </a:lnTo>
                <a:lnTo>
                  <a:pt x="21504" y="11472"/>
                </a:lnTo>
                <a:lnTo>
                  <a:pt x="21552" y="16224"/>
                </a:lnTo>
                <a:lnTo>
                  <a:pt x="27360" y="16752"/>
                </a:lnTo>
                <a:lnTo>
                  <a:pt x="27408" y="10272"/>
                </a:lnTo>
                <a:lnTo>
                  <a:pt x="26112" y="7920"/>
                </a:lnTo>
                <a:lnTo>
                  <a:pt x="28752" y="7104"/>
                </a:lnTo>
                <a:lnTo>
                  <a:pt x="28368" y="4512"/>
                </a:lnTo>
                <a:lnTo>
                  <a:pt x="26640" y="6192"/>
                </a:lnTo>
                <a:lnTo>
                  <a:pt x="25488" y="3264"/>
                </a:lnTo>
                <a:lnTo>
                  <a:pt x="26352" y="912"/>
                </a:lnTo>
                <a:lnTo>
                  <a:pt x="27600" y="3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320" y="777960"/>
            <a:ext cx="8477280" cy="5842080"/>
          </a:xfrm>
          <a:custGeom>
            <a:avLst/>
            <a:gdLst/>
            <a:ahLst/>
            <a:rect l="l" t="t" r="r" b="b"/>
            <a:pathLst>
              <a:path w="29904" h="17664">
                <a:moveTo>
                  <a:pt x="0" y="17664"/>
                </a:moveTo>
                <a:lnTo>
                  <a:pt x="2448" y="14208"/>
                </a:lnTo>
                <a:lnTo>
                  <a:pt x="2448" y="9696"/>
                </a:lnTo>
                <a:lnTo>
                  <a:pt x="432" y="7344"/>
                </a:lnTo>
                <a:lnTo>
                  <a:pt x="144" y="4176"/>
                </a:lnTo>
                <a:lnTo>
                  <a:pt x="48" y="1584"/>
                </a:lnTo>
                <a:lnTo>
                  <a:pt x="2208" y="240"/>
                </a:lnTo>
                <a:lnTo>
                  <a:pt x="5712" y="96"/>
                </a:lnTo>
                <a:lnTo>
                  <a:pt x="9552" y="48"/>
                </a:lnTo>
                <a:lnTo>
                  <a:pt x="12000" y="96"/>
                </a:lnTo>
                <a:lnTo>
                  <a:pt x="15072" y="48"/>
                </a:lnTo>
                <a:lnTo>
                  <a:pt x="16752" y="48"/>
                </a:lnTo>
                <a:lnTo>
                  <a:pt x="16848" y="2880"/>
                </a:lnTo>
                <a:lnTo>
                  <a:pt x="14928" y="5568"/>
                </a:lnTo>
                <a:lnTo>
                  <a:pt x="11280" y="5904"/>
                </a:lnTo>
                <a:lnTo>
                  <a:pt x="8064" y="8784"/>
                </a:lnTo>
                <a:lnTo>
                  <a:pt x="6912" y="10320"/>
                </a:lnTo>
                <a:lnTo>
                  <a:pt x="6912" y="10848"/>
                </a:lnTo>
                <a:lnTo>
                  <a:pt x="10992" y="10656"/>
                </a:lnTo>
                <a:lnTo>
                  <a:pt x="10848" y="11808"/>
                </a:lnTo>
                <a:lnTo>
                  <a:pt x="5952" y="11328"/>
                </a:lnTo>
                <a:lnTo>
                  <a:pt x="5808" y="14400"/>
                </a:lnTo>
                <a:lnTo>
                  <a:pt x="5808" y="15600"/>
                </a:lnTo>
                <a:lnTo>
                  <a:pt x="13632" y="15648"/>
                </a:lnTo>
                <a:lnTo>
                  <a:pt x="18912" y="15600"/>
                </a:lnTo>
                <a:lnTo>
                  <a:pt x="18720" y="10176"/>
                </a:lnTo>
                <a:lnTo>
                  <a:pt x="18672" y="8736"/>
                </a:lnTo>
                <a:lnTo>
                  <a:pt x="15072" y="10176"/>
                </a:lnTo>
                <a:lnTo>
                  <a:pt x="15264" y="8736"/>
                </a:lnTo>
                <a:lnTo>
                  <a:pt x="20544" y="8688"/>
                </a:lnTo>
                <a:lnTo>
                  <a:pt x="22080" y="3888"/>
                </a:lnTo>
                <a:lnTo>
                  <a:pt x="21408" y="384"/>
                </a:lnTo>
                <a:lnTo>
                  <a:pt x="22752" y="336"/>
                </a:lnTo>
                <a:lnTo>
                  <a:pt x="22704" y="6048"/>
                </a:lnTo>
                <a:lnTo>
                  <a:pt x="22560" y="8928"/>
                </a:lnTo>
                <a:lnTo>
                  <a:pt x="19872" y="10080"/>
                </a:lnTo>
                <a:lnTo>
                  <a:pt x="19872" y="15936"/>
                </a:lnTo>
                <a:lnTo>
                  <a:pt x="26832" y="16656"/>
                </a:lnTo>
                <a:lnTo>
                  <a:pt x="27840" y="15936"/>
                </a:lnTo>
                <a:lnTo>
                  <a:pt x="27744" y="12048"/>
                </a:lnTo>
                <a:lnTo>
                  <a:pt x="27600" y="7680"/>
                </a:lnTo>
                <a:lnTo>
                  <a:pt x="27120" y="7104"/>
                </a:lnTo>
                <a:lnTo>
                  <a:pt x="29088" y="6288"/>
                </a:lnTo>
                <a:lnTo>
                  <a:pt x="28752" y="2304"/>
                </a:lnTo>
                <a:lnTo>
                  <a:pt x="27888" y="1920"/>
                </a:lnTo>
                <a:lnTo>
                  <a:pt x="25968" y="3504"/>
                </a:lnTo>
                <a:lnTo>
                  <a:pt x="25440" y="1920"/>
                </a:lnTo>
                <a:lnTo>
                  <a:pt x="26112" y="768"/>
                </a:lnTo>
                <a:lnTo>
                  <a:pt x="27648" y="0"/>
                </a:lnTo>
                <a:lnTo>
                  <a:pt x="28608" y="1056"/>
                </a:lnTo>
                <a:lnTo>
                  <a:pt x="29328" y="48"/>
                </a:lnTo>
                <a:lnTo>
                  <a:pt x="299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5985000"/>
            <a:ext cx="911160" cy="63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PARTE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120" y="539748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4160" y="5554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5840" y="150804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840" y="27781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9160" y="30168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9560" y="552456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6600" y="30160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440" y="24289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0280" y="3127320"/>
            <a:ext cx="44784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62720" y="18097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3320" y="149220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2400" y="34606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6960" y="4889520"/>
            <a:ext cx="4474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368316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840" y="209556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32120" y="380880"/>
            <a:ext cx="449280" cy="555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1000" y="4048200"/>
            <a:ext cx="44784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30440" y="384192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96400" y="4111560"/>
            <a:ext cx="449280" cy="555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73600" y="555624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34920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3400" y="334980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8720" y="339732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492280"/>
            <a:ext cx="44784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72280" y="49212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19600" y="328608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3440" y="447660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7880" y="88884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0600" y="554040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63880" y="552456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20880" y="54608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1840" y="44460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5840" y="26510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6880" y="398448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5280" y="198432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5280" y="3841920"/>
            <a:ext cx="449280" cy="634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23120" y="109548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327024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51600" y="20318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9600" y="496872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152388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2400" y="471492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7840" y="388944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9720" y="36504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3600" y="427032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48160" y="1492200"/>
            <a:ext cx="44784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1120" y="92088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400" y="349200"/>
            <a:ext cx="44928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1960" y="3524400"/>
            <a:ext cx="447480" cy="61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9600" y="42876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6560" y="433404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261936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47120" y="888840"/>
            <a:ext cx="44928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560" y="550872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48560" y="573084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2120" y="392112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3400" y="101592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6680" y="3206880"/>
            <a:ext cx="44892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22880" y="442908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8880" y="214308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62560" y="33336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69400" y="536580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4000" y="4349880"/>
            <a:ext cx="44784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3600" y="4968720"/>
            <a:ext cx="449280" cy="460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5600" y="5905440"/>
            <a:ext cx="449280" cy="555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17520"/>
            <a:ext cx="44928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10160" y="3873600"/>
            <a:ext cx="44928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53400" y="3000240"/>
            <a:ext cx="449280" cy="6350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0280" y="5048280"/>
            <a:ext cx="44784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73680" y="380880"/>
            <a:ext cx="44892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3400" y="2381400"/>
            <a:ext cx="449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15160" y="2921040"/>
            <a:ext cx="449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1320" y="450864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44500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9000" y="165096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552456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64440" y="260352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443600">
            <a:off x="7619760" y="285840"/>
            <a:ext cx="1306440" cy="730080"/>
          </a:xfrm>
          <a:custGeom>
            <a:avLst/>
            <a:gdLst>
              <a:gd name="textAreaLeft" fmla="*/ 326520 w 1306440"/>
              <a:gd name="textAreaRight" fmla="*/ 979920 w 1306440"/>
              <a:gd name="textAreaTop" fmla="*/ 21600 h 730080"/>
              <a:gd name="textAreaBottom" fmla="*/ 547560 h 73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ARR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123400" y="905040"/>
          <a:ext cx="59364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3400" y="905040"/>
                    <a:ext cx="593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55520" y="4127400"/>
          <a:ext cx="870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520" y="4127400"/>
                    <a:ext cx="870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870440" y="4714920"/>
          <a:ext cx="5824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4714920"/>
                    <a:ext cx="5824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487840" y="2413080"/>
          <a:ext cx="51912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7840" y="2413080"/>
                    <a:ext cx="519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908760" y="4603680"/>
          <a:ext cx="1015920" cy="78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08760" y="4603680"/>
                    <a:ext cx="1015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65200" y="4826160"/>
          <a:ext cx="642960" cy="75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65200" y="4826160"/>
                    <a:ext cx="6429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97160" y="1301760"/>
          <a:ext cx="641160" cy="46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97160" y="1301760"/>
                    <a:ext cx="641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 txBox="1"/>
          <p:nvPr/>
        </p:nvSpPr>
        <p:spPr>
          <a:xfrm rot="20687400">
            <a:off x="3470040" y="4984920"/>
            <a:ext cx="14508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ira il dad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600000">
            <a:off x="815760" y="2460600"/>
            <a:ext cx="18889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iedi aiuto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 rot="20896800">
            <a:off x="6735600" y="4048200"/>
            <a:ext cx="141480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rendi una carta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063800"/>
            <a:ext cx="609624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8640" bIns="8640" anchor="t">
            <a:noAutofit/>
          </a:bodyPr>
          <a:p>
            <a:pPr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 rot="18959400">
            <a:off x="1482840" y="3285720"/>
            <a:ext cx="21222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Scegli la domand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30920"/>
            <a:ext cx="9144000" cy="1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494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94600" y="0"/>
            <a:ext cx="1494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34280" y="57466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4854240" y="1542960"/>
            <a:ext cx="2497320" cy="204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ispondi!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 rot="20943600">
            <a:off x="2080800" y="1523880"/>
            <a:ext cx="315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ai attenzion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22:56:09Z</dcterms:created>
  <dc:creator>ValeriaP</dc:creator>
  <dc:description/>
  <dc:language>en-US</dc:language>
  <cp:lastModifiedBy>Preferred Customer</cp:lastModifiedBy>
  <cp:lastPrinted>2003-07-06T02:14:55Z</cp:lastPrinted>
  <dcterms:modified xsi:type="dcterms:W3CDTF">2003-07-06T02:15:14Z</dcterms:modified>
  <cp:revision>17</cp:revision>
  <dc:subject/>
  <dc:title>No Slide Title</dc:title>
</cp:coreProperties>
</file>